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745BC-0A74-41A7-B907-377A4BE4CC3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Номер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A6CC2-6AF4-4C7D-AF44-2D24B951569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E70E8-8DD7-42D8-8B19-51EA60580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5253A-F755-4DC0-A2C6-F8CC154BF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BC956-DFB1-4226-8AAA-81E33BCA1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321F3-C2A3-4626-87AF-E83475E7B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D19DE-AA62-4E72-A771-178D190DF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7CD49-6F60-47DE-BAB0-8799433BA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17B40-4C3B-4120-899D-41FCBE03E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5E86B-D359-4F9F-B041-147D792EC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5611D-DCCD-4750-A927-70273CB49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5EFC8-5777-448D-94B6-5F2AF438D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15B7D-D996-4276-9570-25E0C4E90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EBAC9-170B-4167-95B8-56C8F191A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2F7B7-CB08-4932-B197-D4A896050C9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C3D30-C322-4399-9DAE-8AE9A8DC3A2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Объект 2"/>
          <p:cNvGraphicFramePr/>
          <p:nvPr/>
        </p:nvGraphicFramePr>
        <p:xfrm>
          <a:off x="287280" y="1555920"/>
          <a:ext cx="8829720" cy="5302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0" name="Объект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7280" y="1555920"/>
                    <a:ext cx="8829720" cy="530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Прямоугольник 3"/>
          <p:cNvSpPr/>
          <p:nvPr/>
        </p:nvSpPr>
        <p:spPr>
          <a:xfrm>
            <a:off x="647640" y="622440"/>
            <a:ext cx="763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Изменение муниципального долга на 1 августа 2023 г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SapphireHiddenControl" descr=""/>
          <p:cNvPicPr/>
          <p:nvPr/>
        </p:nvPicPr>
        <p:blipFill>
          <a:blip r:embed="rId3"/>
          <a:stretch/>
        </p:blipFill>
        <p:spPr>
          <a:xfrm>
            <a:off x="0" y="0"/>
            <a:ext cx="6095880" cy="40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D57A7-E0A3-4CB4-8B94-6BB4E8CD395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2"/>
          <p:cNvSpPr/>
          <p:nvPr/>
        </p:nvSpPr>
        <p:spPr>
          <a:xfrm>
            <a:off x="520560" y="501480"/>
            <a:ext cx="788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Структура муниципального долга на 1 августа 2023го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Объект 3"/>
          <p:cNvGraphicFramePr/>
          <p:nvPr/>
        </p:nvGraphicFramePr>
        <p:xfrm>
          <a:off x="182520" y="1044720"/>
          <a:ext cx="9875880" cy="6075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6" name="Объект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520" y="1044720"/>
                    <a:ext cx="9875880" cy="607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4T05:42:13Z</dcterms:created>
  <dc:creator>User</dc:creator>
  <dc:description/>
  <dc:language>en-US</dc:language>
  <cp:lastModifiedBy>RePack by Diakov</cp:lastModifiedBy>
  <cp:lastPrinted>2020-01-10T05:43:34Z</cp:lastPrinted>
  <dcterms:modified xsi:type="dcterms:W3CDTF">2023-07-24T09:29:54Z</dcterms:modified>
  <cp:revision>155</cp:revision>
  <dc:subject/>
  <dc:title>Презентация PowerPoint</dc:title>
</cp:coreProperties>
</file>